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FA6-12BE-41AA-8BD2-A07F63DA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3CB-86FD-4069-8FC0-509D1E35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429-80D1-4A06-8104-F4F7613D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EB8-A602-4126-85A3-2D50DC46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A1CC-AB78-4D66-961A-89541330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A598-ADD4-4FE7-B50B-8701B134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8314-56A4-4C99-B181-E7D4CD1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B84D-6A2D-46C6-86AF-6A43906F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2218-0ADD-4974-AF60-B4557098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C049-55EB-4948-A665-93502C60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E449-1CAD-4357-B181-F5A12118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492-A19F-4A7C-8718-A67C7C79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3366-A3E2-4C3B-A14D-1AB9CD35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A68-F26E-4DFE-8DBA-107D6008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4708-24C4-4363-889B-C23E9D2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A932-585F-406F-8D30-FE6FB1AC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2AA1-D56D-4456-B15D-9A37CDBC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755-D53E-4BC4-AA01-3036094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F33-9E4F-4935-BE5F-460A2853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D298-36B2-4D3F-AA72-5C995A5A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B35-ED6D-4B33-AEAB-FD7680B7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AA8-FB7C-4498-83DF-3DD0E20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5E2-AB68-4153-B6D0-29D7EB56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A30-9179-40F8-98A6-8ED7F27D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7F68-EB41-48D1-A246-150554331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A4CE-05C9-4E42-93B3-31FEF0AC79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hilbirnbaum.com/luck.ppt" TargetMode="External"/><Relationship Id="rId2" Type="http://schemas.openxmlformats.org/officeDocument/2006/relationships/hyperlink" Target="http://www.philbirnbaum.com/luckall.xls" TargetMode="External"/><Relationship Id="rId3" Type="http://schemas.openxmlformats.org/officeDocument/2006/relationships/hyperlink" Target="http://www.philbirnbaum.com/players.xls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ahoma"/>
              </a:rPr>
              <a:t>Were the 1994 Expos Just Lucky?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ing the “real” skill level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il Birnbaum – www.philbirnbaum.c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undershot their runs created by total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2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opponents undershot their runs created by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 overshot their Pythagorean Projection by 2.85 wins, or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it all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76 = hitters’ caree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49 = pitchers’ career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29 = runs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3 = opposition runs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28 = pythagorean proj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: +128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xpos were lucky by +128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’s 12.8 wins – call it 13 w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74-40, we estimate their real talent was 61-5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National League Ea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Actual    Luck     Proj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pos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74-4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+13      61-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aves     68-46      + 1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67-4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s       55-58      + 4      51-6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hillies   54-61      - 3      57-5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lins    51-64      - 1      52-6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n Stu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were the luckiest and unluckiest teams from 1960-2001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results surprising to me – for example, the unluckiest team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1995 Toronto Blue Jay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1995 Blue J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tters were –7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chers were –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 –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position RC –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ythagoras –2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: -196 runs in only 144 g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ays were 56-88 – should have been 76-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p Unlucky Tea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2 Mets       40-120    61-99    -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9 A’s        54-108    74-88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5 Blue Jays  56- 88    76-68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7 Indians    61-101    81-81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8 Mariners   76- 85    95-66    -2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9 Expos      52-110    66-96    -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cki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uckiest team, 1960-2001 was, by a very wide margin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2001 Seattle Marin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2001 Seattle Marin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tters were +12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itchers were +11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C -2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position RC +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ythagoras +4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: 273 runs!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ariners were 116-46; should have been 89-7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at same year, the Angels were 11 games unlucky, and should have been 86-7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ngels finished 41 games behind Seattle – should have been only 3 g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 game difference from just luc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ucki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1 Mariners   116-46    89-73    +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8 Yankees    114-48    92-70    +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0 Pirates     95-59    76-78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+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2 A’s         96-66    77-85    +1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5 Cardinals  101-61    83-79    +1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2 Dodgers    102-63    84-81    +1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4 Expos       74-40    61-53    +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93 Blue Jays   95-67    88-74     +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-L Record and Lu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gine a .500 team’s record as a series of 162 coin to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s=Win, Tails=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eviation of wins = 6.3 g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30-team league, 5 teams will be better than 87-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5 teams will be more extreme than 94-68 or 68-94, just by ch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were the best teams in terms of tal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is, after all the luck was stripped out, which teams remained truly grea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3 teams from 1960-2001 had an expected talent of 100+ g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seems too small, but makes sense  – for instance, there are many players who go 2-for-4, but none who are truly .500 hi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21 teams were expected 100-game lo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Be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9 Baltimore Orio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8 Atlanta Brav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Atlanta Brav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Baltimore Oriol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4 Los Angeles Dodg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5 Cincinnati Red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2 Toronto Blue Jay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2 Montreal Exp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Worst Te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5 New York Me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7 Toronto Blue Jay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2 Texas Rang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9 San Diego Padr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7 Seattle Mariner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1 San Diego Padre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4 New York Met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Montreal Expo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65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cky and Unlucky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usual seasons are not always luck; can 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ing inju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ting (Norm Cas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dden mat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dden loss of effectiveness (Steve Bl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a new skill or new p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instance, consider the unluckiest player from 1960-2001, who cost his team 6 games by playing below expectation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ve Stieb, 198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 ER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4, 2.7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5, 2.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6,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.8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7, 3.7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988, 2.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id Stieb have a bad 1986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couldn’t find any evidence of injury.  Could it really have been just bad luc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Unluckiest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6 Dave Stieb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9 Jeff Fasser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Albert Bel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Scott Brosiu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3 Steve Blas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0 Dennis Lam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2 Ron Sant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7 Sammy Sos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00 Roy Hallada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4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1 Carl Mort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3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uckiest P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2 Steve Carlt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80 Mike Norris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1 Norm Cas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63 Dick Ellswort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3 John Oleru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6 Ed Corre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Billy Grabarkewitz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91 Cal Ripke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5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8 Ross Grimsle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970 Cito Gaston         +4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es/spreadsheets will be a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hilbirnbaum.com/luck.p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philbirnbaum.com/luckall.x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www.philbirnbaum.com/players.x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istical Evidence of Lu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a team is lucky and wins more games than its talent.  How does this happ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reak down into five non-overlapping way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ve Ways to be Luc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tters having unexpected “career year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tchers having unexpected “career year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scoring more runs than expected by their batt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ating “Runs Created” estimate, perhaps by clutch hit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allowing fewer runs than expected by the opposition’s batt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ting out of jams while opposition “chokes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m winning more games than expected by its Runs Scored/Ru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ythagorean Projection -- scoring runs in games where they’re most need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s Having Career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ers can play over their 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ws up in a player’s career stats as a “career yea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Jim Clancy, 19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1980 to 1984, Component ERAs were: 3.60, 4.71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3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3.96, 4.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Clancy was 31 runs better than expected in 198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10 runs per win, the 1982 Jays were “lucky” by three games because of Clancy’s career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s Having Career Yea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new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take the previous two years and next two years, and estimate what the player “should have” done in the middle ye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gh idea: average the four years, regress to the mean, and adjust for play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in progress – probably not too accurate, but good enough to distinguish lucky from unlucky in most c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efully similar to examining each case “by hand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available on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1994 Exp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1994 Expos went 74-40.  Were they lucky or unlucky?  And by how mu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ll go through the five ste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tters having career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, the Expos hitters create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76 runs more than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ises Alou +25, Wil Cordero +18, Larry Walker +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ke Lansing –8 had the worst off-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994 Exp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tchers having career 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, the Expos pitchers w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49 runs better than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ch Henry +20, Jeff Fassero +10, Ken Hill +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rk Rueter –8 had the worst off-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22:31:36Z</dcterms:created>
  <dc:creator>Phil</dc:creator>
  <dc:description/>
  <dc:language>en-US</dc:language>
  <cp:lastModifiedBy>Phil</cp:lastModifiedBy>
  <dcterms:modified xsi:type="dcterms:W3CDTF">2005-08-03T03:13:41Z</dcterms:modified>
  <cp:revision>12</cp:revision>
  <dc:subject/>
  <dc:title>Were the 1994 Expos Just Lucky?</dc:title>
</cp:coreProperties>
</file>