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498-1144-4191-88B4-496E6F05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310-A433-4019-B8C0-237AA210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E9C-52D0-435B-8790-E89A5FEB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46C-9B5A-495D-9301-322C6BB9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6FEC-5ECB-46CF-8FDC-83BDD085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2E07-3B3F-4DBC-8B71-AACD3604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EA84-2A82-48B2-8ACD-66EEB9F4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D0C3-1F65-44C0-99C2-A1CC581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57FF-757C-422C-9CB1-AFA1F3C9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DF1C-4458-4F3F-8557-4DBCECDF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D6DD-5DE9-446A-90A8-CA5996D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C86-6643-4A11-9834-521D2DE8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6A56-3744-48F3-BE3C-0449FC2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7722-68EF-466D-93C6-FF50D37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30E-04FD-435D-8327-D1DEA35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3F43-7DE1-4280-B1BE-A4A94005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39FC-8413-46E9-A141-5C7A339B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615-8808-4D96-A237-AE050F6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B35-0678-4EC6-AC81-9729420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307-A6C6-495E-BA68-A806AC3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223-BC24-4207-BEEF-DE6F8F0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A8F-AD21-48B5-A861-BCDD5F9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E4-AE4A-4657-9090-9C81523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7A2-26AA-4C21-9AC0-CBAA599E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693C-D7D9-4900-AB8B-BB0CACE1E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A5A3-E4F7-42F5-A5CB-BC4A9DB248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hilbirnbaum.com/luck.ppt" TargetMode="External"/><Relationship Id="rId2" Type="http://schemas.openxmlformats.org/officeDocument/2006/relationships/hyperlink" Target="http://www.philbirnbaum.com/luckall.xls" TargetMode="External"/><Relationship Id="rId3" Type="http://schemas.openxmlformats.org/officeDocument/2006/relationships/hyperlink" Target="http://www.philbirnbaum.com/players.xls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ahoma"/>
              </a:rPr>
              <a:t>Were the 1994 Expos Just Lucky?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the “real” skill level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 Birnbaum – www.philbirnbaum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undershot their runs created by tota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2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opponents undershot their runs created b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overshot their Pythagorean Projection by 2.85 wins, 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it all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76 = hitters’ caree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49 = pitchers’ caree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9 = runs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3 = opposition runs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28 = pythagorean proj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: +128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os were lucky by +128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’s 12.8 wins – call it 13 w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74-40, we estimate their real talent was 61-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National League Ea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Actual    Luck     Proj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os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74-4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+13      61-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aves     68-46      + 1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67-4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s       55-58      + 4      51-6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hillies   54-61      - 3      57-5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lins    51-64      - 1      52-6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 Stu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were the luckiest and unluckiest teams from 1960-2001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results surprising to me – for example, the unluckiest team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1995 Toronto Blue J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1995 Blue J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tters were –7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chers were –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 –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sition RC –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ythagoras –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: -196 runs in only 144 g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ays were 56-88 – should have been 76-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 Unlucky Tea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2 Mets       40-120    61-99    -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 A’s        54-108    74-88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5 Blue Jays  56- 88    76-68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7 Indians    61-101    81-81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8 Mariners   76- 85    95-66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9 Expos      52-110    66-96    -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cki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uckiest team, 1960-2001 was, by a very wide margi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2001 Seattle Marin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2001 Seattle Mari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tters were +12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tchers were +11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C -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position RC +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ythagoras +4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: 273 runs!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riners were 116-46; should have been 89-7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same year, the Angels were 11 games unlucky, and should have been 86-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gels finished 41 games behind Seattle – should have been only 3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 game difference from just luc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ucki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1 Mariners   116-46    89-73    +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8 Yankees    114-48    92-70    +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 Pirates     95-59    76-7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+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2 A’s         96-66    77-85    +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5 Cardinals  101-61    83-79    +1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2 Dodgers    102-63    84-81    +1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4 Expos       74-40    61-53    +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3 Blue Jays   95-67    88-74     +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-L Record and Lu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gine a .500 team’s record as a series of 162 coin to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s=Win, Tails=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eviation of wins = 6.3 g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30-team league, 5 teams will be better than 87-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5 teams will be more extreme than 94-68 or 68-94, just by ch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were the best teams in terms of tal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is, after all the luck was stripped out, which teams remained truly grea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3 teams from 1960-2001 had an expected talent of 100+ 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eems too small, but makes sense  – for instance, there are many players who go 2-for-4, but none who are truly .500 hi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21 teams were expected 100-game lo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9 Baltimore Orio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8 Atlanta Brav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Atlanta Brav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Baltimore Orio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4 Los Angeles Dodg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5 Cincinnati Re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2 Toronto Blue Jay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2 Montreal Exp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or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5 New York Me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7 Toronto Blue Jay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2 Texas Rang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9 San Diego Padr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7 Seattle Marin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1 San Diego Padr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4 New York Me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Montreal Exp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6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cky and Unlucky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usual seasons are not always luck;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ing inj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ting (Norm Cas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dden mat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dden loss of effectiveness (Steve Bl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a new skill or new 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nstance, consider the unluckiest player from 1960-2001, who cost his team 6 games by playing below expectation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ve Stieb, 198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E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4, 2.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5, 2.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6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.8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7, 3.7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8, 2.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id Stieb have a bad 1986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ouldn’t find any evidence of injury.  Could it really have been just bad luc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Unluckiest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6 Dave Stie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Jeff Fasser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Albert Bel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Scott Brosi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3 Steve B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0 Dennis Lam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2 Ron Sa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Sammy Sos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00 Roy Hallad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1 Carl Mort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uckiest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2 Steve Carlt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0 Mike Norri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1 Norm Cas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3 Dick Ellswor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3 John Oleru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6 Ed Corre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Billy Grabarkewitz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1 Cal Ripk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8 Ross Grimsle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Cito Gaston         +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s/spreadsheets will be a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hilbirnbaum.com/luck.p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philbirnbaum.com/luckall.x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philbirnbaum.com/players.x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stical Evidence of Lu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a team is lucky and wins more games than its talent.  How does this happ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reak down into five non-overlapping w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ve Ways to be Luc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tters having unexpected “career year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tchers having unexpected “career year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scoring more runs than expected by their batt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ting “Runs Created” estimate, perhaps by clutch hit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allowing fewer runs than expected by the opposition’s batt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ting out of jams while opposition “chokes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winning more games than expected by its Runs Scored/Ru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ythagorean Projection -- scoring runs in games where they’re most need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s Having Career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ers can play over their 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s up in a player’s career stats as a “career yea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Jim Clancy, 19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1980 to 1984, Component ERAs were: 3.60, 4.71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3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3.96, 4.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Clancy was 31 runs better than expected in 198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10 runs per win, the 1982 Jays were “lucky” by three games because of Clancy’s career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s Having Career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new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take the previous two years and next two years, and estimate what the player “should have” done in the middl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gh idea: average the four years, regress to the mean, and adjust for play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in progress – probably not too accurate, but good enough to distinguish lucky from unlucky in most c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efully similar to examining each case “by han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available on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1994 Ex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1994 Expos went 74-40.  Were they lucky or unlucky?  And by how mu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ll go through the five ste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tters having career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, the Expos hitters create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76 runs more than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ises Alou +25, Wil Cordero +18, Larry Walker +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ke Lansing –8 had the worst off-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chers having career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, the Expos pitchers w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49 runs better than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ch Henry +20, Jeff Fassero +10, Ken Hill +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rk Rueter –8 had the worst off-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31:36Z</dcterms:created>
  <dc:creator>Phil</dc:creator>
  <dc:description/>
  <dc:language>en-US</dc:language>
  <cp:lastModifiedBy>Phil</cp:lastModifiedBy>
  <dcterms:modified xsi:type="dcterms:W3CDTF">2005-08-03T03:13:41Z</dcterms:modified>
  <cp:revision>12</cp:revision>
  <dc:subject/>
  <dc:title>Were the 1994 Expos Just Lucky?</dc:title>
</cp:coreProperties>
</file>