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774-6624-43AD-A188-20D0561C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5F9-5FA4-4DBE-95F6-2BBBA46B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FD9-5CA1-493E-AE8D-A1626A3B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BA9-9170-41C9-96D0-9821E6B7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BA9-9CD1-4039-9528-66CFF6D5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839-AD4D-4762-83A5-E879C4B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61C-7E17-41A2-993E-7C0847D4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558-C0E7-4148-8A9C-1B371A4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324-47E8-4E27-82EA-F24D05FA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BDAA-A628-47E5-8DF0-46E6BB4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269-3A80-4159-B2B4-A009746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257-EA1A-4B01-81F8-380541EA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BEF2-70C9-4445-B563-5155A286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15BF-5CAF-42C2-ACDA-697EC2F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D56-30D5-4DB7-84BE-D476268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7B5F-946D-4E11-8340-82D740B2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84B-CAEA-4D5A-A920-A3B0230C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275-53E0-4C4F-9863-C504076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3BD-64C1-4CBC-AD7C-840D142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C0A-9098-4097-A9BD-E5EF03F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CFA-CAAC-4174-AF38-D7BBA3AA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BE8-1196-4A98-8B45-D3143AAF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E53-DB67-4755-A381-D878920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93F-5064-43E1-A34C-17CE041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8E8-C996-4F96-B19C-8DA1A01F1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0AB-7DF6-4FCB-B774-392C9CB06D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hilbirnbaum.com/luck.ppt" TargetMode="External"/><Relationship Id="rId2" Type="http://schemas.openxmlformats.org/officeDocument/2006/relationships/hyperlink" Target="http://www.philbirnbaum.com/luckall.xls" TargetMode="External"/><Relationship Id="rId3" Type="http://schemas.openxmlformats.org/officeDocument/2006/relationships/hyperlink" Target="http://www.philbirnbaum.com/players.xls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ahoma"/>
              </a:rPr>
              <a:t>Were the 1994 Expos Just Lucky?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the “real” skill level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 Birnbaum – www.philbirnbaum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undershot their runs created by tota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2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pponents undershot their runs created b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vershot their Pythagorean Projection by 2.85 wins, 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it all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76 = hitt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49 = pitch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9 =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3 = opposition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28 = pythagorean proj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os were lucky by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’s 12.8 wins – call it 13 w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74-40, we estimate their real talent was 61-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National League Ea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Actual    Luck     Proj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os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74-4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+13      61-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aves     68-46      + 1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7-4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s       55-58      + 4      51-6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illies   54-61      - 3      57-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lins    51-64      - 1      52-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 Stu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luckiest and unluckiest teams from 1960-2001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sults surprising to me – for example, the unluckiest team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5 Toronto Blue J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5 Blue J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tters were –7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chers were –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 –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sition RC –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ythagoras –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-196 runs in only 144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ays were 56-88 – should have been 76-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Unlucky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Mets       40-120    61-99    -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 A’s        54-108    74-8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5 Blue Jays  56- 88    76-6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7 Indians    61-101    81-81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Mariners   76- 85    95-66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9 Expos      52-110    66-96    -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uckiest team, 1960-2001 was, by a very wide margi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2001 Seattle Mari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2001 Seattle Mari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tters were +12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tchers were +11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C -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position RC +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as +4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: 273 runs!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riners were 116-46; should have been 89-7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same year, the Angels were 11 games unlucky, and should have been 86-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els finished 41 games behind Seattle – should have been only 3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 game difference from just luc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1 Mariners   116-46    89-73    +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Yankees    114-48    92-70    +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 Pirates     95-59    76-7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2 A’s         96-66    77-85 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5 Cardinals  101-61    83-79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Dodgers    102-63    84-81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4 Expos       74-40    61-53    +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3 Blue Jays   95-67    88-74     +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-L Record and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ine a .500 team’s record as a series of 162 coin to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s=Win, Tails=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eviation of wins = 6.3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30-team league, 5 teams will be better than 87-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5 teams will be more extreme than 94-68 or 68-94, just by ch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best teams in terms of tal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is, after all the luck was stripped out, which teams remained truly grea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3 teams from 1960-2001 had an expected talent of 100+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ems too small, but makes sense  – for instance, there are many players who go 2-for-4, but none who are truly .500 hi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21 teams were expected 100-game lo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8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4 Los Angeles Dod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5 Cincinnati Re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2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2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or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5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Texas Ran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Seattle Marin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4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6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y and Unlucky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sual seasons are not always luck;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ing inj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ting (Norm Cas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mat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loss of effectiveness (Steve B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a new skill or new 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stance, consider the unluckiest player from 1960-2001, who cost his team 6 games by playing below expectation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e Stieb, 198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E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4, 2.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5, 2.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6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.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7, 3.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8, 2.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id Stieb have a bad 1986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ouldn’t find any evidence of injury.  Could it really have been just bad luc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Un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6 Dave Stie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Jeff Fasser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lbert Bel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cott Bros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3 Steve B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Dennis Lam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2 Ron Sa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ammy Sos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0 Roy Hallad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Carl Mor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Steve Carl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Mike Norri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1 Norm Ca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3 Dick Ellswor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3 John Oleru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6 Ed Corre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illy Grabarkewitz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1 Cal Ripk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8 Ross Grimsle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Cito Gaston         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s/spreadsheets will be a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hilbirnbaum.com/luck.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philbirnbaum.com/luckall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philbirnbaum.com/players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stical Evidence of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a team is lucky and wins more games than its talent.  How does this happ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reak down into five non-overlapping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ve Ways to be Lu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tt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tch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scoring more runs than expected by their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ting “Runs Created” estimate, perhaps by clutch h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allowing fewer runs than expected by the opposition’s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ting out of jams while opposition “chokes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winning more games than expected by its Runs Scored/Ru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ean Projection -- scoring runs in games where they’re most nee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ers can play over their 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s up in a player’s career stats as a “career ye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Jim Clancy, 19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1980 to 1984, Component ERAs were: 3.60, 4.7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3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3.96, 4.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Clancy was 31 runs better than expected in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10 runs per win, the 1982 Jays were “lucky” by three games because of Clancy’s career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new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take the previous two years and next two years, and estimate what the player “should have” done in the middl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 idea: average the four years, regress to the mean, and adjust for play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in progress – probably not too accurate, but good enough to distinguish lucky from unlucky in most c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efully similar to examining each case “by han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available on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4 Expos went 74-40.  Were they lucky or unlucky?  And by how mu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ll go through the five ste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tt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hitters creat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76 runs more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ises Alou +25, Wil Cordero +18, Larry Walker +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ke Lansing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ch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pitchers w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9 runs better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ch Henry +20, Jeff Fassero +10, Ken Hill +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rk Rueter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31:36Z</dcterms:created>
  <dc:creator>Phil</dc:creator>
  <dc:description/>
  <dc:language>en-US</dc:language>
  <cp:lastModifiedBy>Phil</cp:lastModifiedBy>
  <dcterms:modified xsi:type="dcterms:W3CDTF">2005-08-03T03:13:41Z</dcterms:modified>
  <cp:revision>12</cp:revision>
  <dc:subject/>
  <dc:title>Were the 1994 Expos Just Lucky?</dc:title>
</cp:coreProperties>
</file>